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27E9-77D4-4F8E-95D4-B8098345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BF85-0D75-4FFD-93E2-C43EA261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FED2-CB96-4B9C-9CBE-8CCA73566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0530-BA00-4177-B889-1FECE52EA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DE5C-B745-46AB-B04D-7D566FEA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2AB2-9C2D-44AE-828B-4DAC2E7F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3FBB-F78A-4164-A2CF-60A297ED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0031-DB09-4CA3-9096-01FF9D2B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C36D-5C0B-43E8-94F1-C92ECA05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532E-7482-483D-B837-70EC1694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4232-12BE-4C7E-98BB-3DB05FE2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F720-3156-446A-8FF8-3FA67BFD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8EB2-B4A1-4195-83DC-9742F94BF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d7d2b"/>
                </a:solidFill>
                <a:latin typeface="Arial"/>
              </a:rPr>
              <a:t>ЖИР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ЕНАСЫЩЕННЫЙ  ЖИР</a:t>
            </a:r>
            <a:r>
              <a:rPr b="1" lang="en-US" sz="44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асыщен  водоро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 как  меньшее  1  двойную  связ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дкий  при  комнатной  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т  стенки  клеток  гибк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 повышает  холестер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ыточное  употребление  ведёт  к  ра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збытке  причиняет  слипание  эритроци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ненасыщенный  жи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ненасыщенный  жир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Виды  ненасыщенных  жиров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804600" cy="838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133720" y="5105520"/>
            <a:ext cx="80460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990720" y="5181480"/>
            <a:ext cx="804600" cy="838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276720" y="5105520"/>
            <a:ext cx="804600" cy="838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4343400" y="510552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5410080" y="510552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6400800" y="510552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7391520" y="5105520"/>
            <a:ext cx="804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Мононенасыщенный  жир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 одну  двойную  связ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ает «плохой»  холестерин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Н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е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ороший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естери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В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ее  склонен  к  окислени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44956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: оливковое  масло, рапсовое  масло, миндал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олиненасыщенный  жир</a:t>
            </a:r>
            <a:r>
              <a:rPr b="1" lang="en-US" sz="54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 одной  двойной  связ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ает  ЛНП и ЛВ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ае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  тромб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ен  к  окислени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45720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: соевое  масло, кукурузное  масло, подсолнечное  масло, грецкие  орехи и др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Гидрогенизация</a:t>
            </a:r>
            <a:r>
              <a:rPr b="1" lang="en-US" sz="66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дрогенизация полиненасыщенных жиров производится путём добавления водорода к неустойчивым двойным связям. Благодаря этому эти жиры становятся менее подверженными окислению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Гидрогенизация</a:t>
            </a:r>
            <a:r>
              <a:rPr b="1" lang="en-US" sz="66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яют свойства полиненасыщенных жиров, становясь более густым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ют риск ССЗ и подозреваются в причастности к заболеванию рако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2952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гидрогенизированные жиры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ИЩЕВАРЕНИЕ  ЖИРОВ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т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ъязычная  слюнная  железа  выделяет  фермент липаз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 взрослых  она  играет  небольшую  роль  в  пищеварении  жир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638680" y="3749760"/>
            <a:ext cx="403884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ИЩЕВАРЕНИЕ  ЖИРОВ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док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удочная  липаза  расщепляет  небольшое  кол-во  жир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ы  покидают  желудок  очень  медленно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 гр.  или  2 ч.л. в  час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253200" y="4419720"/>
            <a:ext cx="27385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943600" y="2144880"/>
            <a:ext cx="3809880" cy="3875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ИЩЕВАРЕНИЕ  ЖИР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6248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кий  кишечни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желудочная и кишечная липаза завершают расщепление жир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происходит всасывание моноглицеридов, глицерина и жирных кислот.60% жира всасывается в лимфатическую систему, замедляя его поступление в кров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</a:rPr>
              <a:t>РЕКОМЕНДУЕМЫЕ НОР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всего употреблять жиры в их природном состоянии, т.е. в орехах, семечках, семенах и плода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-60 грамм орехов, семечек или 3-4 ст. л. растительного масла, плюс жиры, изначально находящихся в продуктах дают рекомендуемые 20-25% калорий из жиров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ы необходимы дл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ы стенок клет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ия энерг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я жирорастворимых витамин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яции и защи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я чувства насыщ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ения вкуса пищ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ки незаменимых жирных кислот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Жир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228600" y="233280"/>
          <a:ext cx="8686800" cy="66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33280"/>
                    <a:ext cx="8686800" cy="66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666720" y="228600"/>
          <a:ext cx="781056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720" y="228600"/>
                    <a:ext cx="78105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620640" y="457200"/>
          <a:ext cx="790416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457200"/>
                    <a:ext cx="79041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80880" y="533520"/>
          <a:ext cx="8458200" cy="60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33520"/>
                    <a:ext cx="845820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617400" y="128520"/>
          <a:ext cx="7909200" cy="66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28520"/>
                    <a:ext cx="7909200" cy="66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623880" y="685800"/>
          <a:ext cx="789624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685800"/>
                    <a:ext cx="789624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380880" y="3048120"/>
            <a:ext cx="327672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Толстый кишечни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рямая киш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ростат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Молочная желез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Мат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Яични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Лёгкие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04920" y="324000"/>
          <a:ext cx="8610480" cy="76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4000"/>
                    <a:ext cx="8610480" cy="76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12193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Жиры  включают  в  себя</a:t>
            </a:r>
            <a:r>
              <a:rPr b="1" lang="en-US" sz="3600" spc="-1" strike="noStrike">
                <a:solidFill>
                  <a:srgbClr val="1d7d2b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1337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триглицериды (жиры и масла)</a:t>
            </a:r>
            <a:r>
              <a:rPr b="1" lang="ru-RU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29718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фосфолипиды</a:t>
            </a:r>
            <a:r>
              <a:rPr b="1" lang="ru-RU" sz="36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3962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терин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Триглицериды</a:t>
            </a:r>
            <a:r>
              <a:rPr b="1" lang="en-US" sz="60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810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реобладают  как  в  пище так  и  в  теле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29718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е  могут  быть  растворены  в  воде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8862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могут  быть  растворены  в  других  жирах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724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остоят  из  трёх  жирных  кислот, присоединённых  к молекуле глицерина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1523880"/>
            <a:ext cx="1295280" cy="388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1523880"/>
            <a:ext cx="2819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2971800"/>
            <a:ext cx="2819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4419720"/>
            <a:ext cx="2819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523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лицер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17524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рн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2004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рн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4648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рна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19810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34290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57400" y="48769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48520" y="3657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бывают  насыщенными  и  ненасыщенными</a:t>
            </a:r>
            <a:r>
              <a:rPr b="0" lang="en-US" sz="2400" spc="-1" strike="noStrike">
                <a:solidFill>
                  <a:srgbClr val="1d7d2b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2514600"/>
            <a:ext cx="243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Жирные  кисло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3049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НЫЙ   ЖИР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371600"/>
            <a:ext cx="8153640" cy="77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 H   H   H   H   H   H   H   H   O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I     I     I    I     I     I    I    II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- C - C - C - C - C - C - C - C - C - C - OH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I     I     I    I     I     I    I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H   H   H    H   H   H   H  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12193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d2b"/>
                </a:solidFill>
                <a:latin typeface="Times New Roman"/>
              </a:rPr>
              <a:t>В</a:t>
            </a:r>
            <a:r>
              <a:rPr b="1" lang="en-US" sz="2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  нём  преобладают  насыщенные  ж.к-ты</a:t>
            </a:r>
            <a:r>
              <a:rPr b="1" lang="en-US" sz="2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НЫЙ   ЖИР</a:t>
            </a:r>
            <a:r>
              <a:rPr b="0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  водоро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твёрдый  при  комнатной  t</a:t>
            </a:r>
            <a:r>
              <a:rPr b="1" lang="en-US" sz="3200" spc="-1" strike="noStrike" baseline="30000">
                <a:solidFill>
                  <a:srgbClr val="1d7d2b"/>
                </a:solidFill>
                <a:latin typeface="Times New Roman"/>
                <a:ea typeface="Times New Roman"/>
              </a:rPr>
              <a:t>0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делает  стенки  клеток  негибк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овышает  холестер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пособствует  образованию  тромб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с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окращает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коронарные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осуды  серд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НЫЙ   ЖИ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 насыщенных  жиров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 животные  жиры, за  исключением  рыбьего  жира, - сливочное масло, свиной жир и т. д. Кокосовое  и  пальмовое  масло - исключения  в  растительном  мир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ЕНАСЫЩЕННЫЙ  ЖИ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 H   H    H   H   H    H   H   H   O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 I     I     I     I     I     I    I    II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- C - C - C = C - C - C = C - C - C - C - OH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             I                I    I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H                H               H  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15:35:14Z</dcterms:created>
  <dc:creator>Our Home</dc:creator>
  <dc:description/>
  <dc:language>en-US</dc:language>
  <cp:lastModifiedBy>Черевичная Вера Петровна</cp:lastModifiedBy>
  <dcterms:modified xsi:type="dcterms:W3CDTF">2007-05-15T19:01:04Z</dcterms:modified>
  <cp:revision>19</cp:revision>
  <dc:subject/>
  <dc:title>ЖИРЫ</dc:title>
</cp:coreProperties>
</file>